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8880-E20A-4D9B-9F8A-D65C3D6C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390-7D6C-45F3-A774-D3DF4115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1DDC-61B7-47AD-B280-97616617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85CE-6D9B-46AD-ABD8-6BBCC25F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E38-DEBA-4827-A700-D4F3A4D9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01B-AF66-4AE9-BC8F-D4D8D44F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168-107A-4AAF-8A95-191A7E90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9DD-2D9D-4A0C-B42C-568161E1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BBF-66D3-43AC-A597-8BAD2009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BD8-02C6-4E45-8EA8-A9636034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B93D-A50D-46D7-BCBE-89B47635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E2C-E258-4B9E-8CAD-0F446336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A55C-CEF2-448D-A3A6-3B2A0A12EE7A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20.png"/><Relationship Id="rId38" Type="http://schemas.openxmlformats.org/officeDocument/2006/relationships/image" Target="../media/image21.png"/><Relationship Id="rId39" Type="http://schemas.openxmlformats.org/officeDocument/2006/relationships/image" Target="../media/image22.png"/><Relationship Id="rId4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t-PT" sz="4000" spc="-1" strike="noStrike" u="sng">
                <a:solidFill>
                  <a:srgbClr val="000000"/>
                </a:solidFill>
                <a:uFillTx/>
                <a:latin typeface="Arial"/>
              </a:rPr>
              <a:t>O Mundo em Desenvolviment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7a9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O que é um País Desenvolvido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Utilizamos o conceito de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País desenvolvido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quando nos referimos  aos países que têm alto nível de desenvolvimento económico e social.. Os países desenvolvidos normalmente são os que apresentam um Índice de Desenvolvimento Humano elevado. Os Países que não têm estas características são classificados como </a:t>
            </a:r>
            <a:r>
              <a:rPr b="1" lang="pt-PT" sz="2000" spc="-1" strike="noStrike" u="sng">
                <a:solidFill>
                  <a:srgbClr val="ffcc00"/>
                </a:solidFill>
                <a:uFillTx/>
                <a:latin typeface="Arial"/>
              </a:rPr>
              <a:t>Países em vias de desenvolvimento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pt-PT" sz="2000" spc="-1" strike="noStrike" u="sng">
                <a:solidFill>
                  <a:srgbClr val="ffcc00"/>
                </a:solidFill>
                <a:uFillTx/>
                <a:latin typeface="Arial"/>
              </a:rPr>
              <a:t>Subdesenvolvidos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Os Países mais Desenvolv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Norueg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ustrál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Islând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Canad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Irland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aíses Baix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Suéc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Franç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Suíç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Japã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Luxemburg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Finlând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stados Unid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Áustr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spanh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Dinamar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Bélgi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Itál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Liechtenstei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8"/>
          <p:cNvSpPr/>
          <p:nvPr/>
        </p:nvSpPr>
        <p:spPr>
          <a:xfrm>
            <a:off x="4859280" y="1197000"/>
            <a:ext cx="40384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9" descr="20px-Flag_of_Belgium_%28civil%29"/>
          <p:cNvPicPr/>
          <p:nvPr/>
        </p:nvPicPr>
        <p:blipFill>
          <a:blip r:embed="rId20"/>
          <a:stretch/>
        </p:blipFill>
        <p:spPr>
          <a:xfrm>
            <a:off x="539640" y="5950080"/>
            <a:ext cx="190440" cy="1238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40"/>
          <p:cNvSpPr/>
          <p:nvPr/>
        </p:nvSpPr>
        <p:spPr>
          <a:xfrm>
            <a:off x="4932360" y="907920"/>
            <a:ext cx="40384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Nova Zelând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Reino Uni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lemanh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Singapu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Hong Ko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Gréc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Coreia do Su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Israe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ndor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slovên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Brune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Kuwai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Chipr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Qat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ortug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mirados Árab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República Che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Barbad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Ma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728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Aspectos Chave para o desenvolvimento de um paí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ão utilizados alguns critérios que podem ditar se um país é desenvolvido ou não. Um dos critérios utilizados é a 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Renda per Capit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e o valor do 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PIB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de cada país. Outro critério económico é a </a:t>
            </a: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Industrialização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 Os países onde os sectores terciário e quaternário da indústria predominam na economia são considerados desenvolvidos. Mais recentemente, uma outra medida, o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Índice de Desenvolvimento Humano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(IDH), começou a ser utilizado. O IDH mede três dimensões: </a:t>
            </a:r>
            <a:r>
              <a:rPr b="0" lang="pt-PT" sz="2000" spc="-1" strike="noStrike">
                <a:solidFill>
                  <a:srgbClr val="cccc00"/>
                </a:solidFill>
                <a:latin typeface="Arial"/>
              </a:rPr>
              <a:t>riquez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2000" spc="-1" strike="noStrike">
                <a:solidFill>
                  <a:srgbClr val="cccc00"/>
                </a:solidFill>
                <a:latin typeface="Arial"/>
              </a:rPr>
              <a:t>educação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PT" sz="2000" spc="-1" strike="noStrike">
                <a:solidFill>
                  <a:srgbClr val="cccc00"/>
                </a:solidFill>
                <a:latin typeface="Arial"/>
              </a:rPr>
              <a:t>esperança média de vid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e é uma maneira de avaliação e medida do bem-estar de uma determinada popul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728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Diferenças entre o nível de desenvolvimento dos paí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odem existir diferenças entre o nível de desenvolvimento dos países devido à origens históricas que deixaram marcas profundas nos países, como a dominação, independência e exploração das colónias, à cultura, à educação, ao nível médio de vid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 consumo, por parte das sociedades dos países desenvolvidos é muito alto. A luta por melhores condições de vida da população é visível. A democracia está totalmente implementada nas nações desenvolvidas. Há nos países desenvolvidos uma densa e articulada rede de cidades. O conceito de "país desenvolvido" é apenas uma referência económica e política, não reflectindo necessariamente o grau real de desenvolvimento social e cultural. Há quem questione se os países onde não há direitos civis e políticos, onde não existe segurança social e onde ainda se aplica a pena de morte e os maus tratos aos reclusos, serão mesmo desenvolvidos, ou se apenas sofreram de crescimento econó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728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65332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s Países desenvolvidos é que, na maioria das vezes, beneficiam das matérias-primas, existentes, nos países subdesenvolvidos, e estes andam à “mercê” do poder económico dos prim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ânia Azev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uns_c_tanto"/>
          <p:cNvPicPr/>
          <p:nvPr/>
        </p:nvPicPr>
        <p:blipFill>
          <a:blip r:embed="rId1"/>
          <a:stretch/>
        </p:blipFill>
        <p:spPr>
          <a:xfrm>
            <a:off x="6084720" y="3429000"/>
            <a:ext cx="28576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22:22:02Z</dcterms:created>
  <dc:creator>Tania Azevedo</dc:creator>
  <dc:description/>
  <dc:language>en-US</dc:language>
  <cp:lastModifiedBy>rute</cp:lastModifiedBy>
  <dcterms:modified xsi:type="dcterms:W3CDTF">2009-12-24T13:15:47Z</dcterms:modified>
  <cp:revision>18</cp:revision>
  <dc:subject/>
  <dc:title>O Desenvolvimento no Mundo</dc:title>
</cp:coreProperties>
</file>